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BF20-D6E4-4725-A96D-E2EC62D0E9D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EA2A-1E81-4BB4-A698-15BE0CCC9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F2F6-0214-45DD-A45E-9002D2240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2154-498C-4391-8333-2913AAA40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CEA5-F22B-467C-8002-83EE3B88C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BCD5-8A4B-4D42-8ABB-5E72FCE38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87B3-AA08-44A6-A471-19367B19A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E048-92AD-491E-8DE6-508B75C1A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DF5D-3571-4358-8661-EC02501C5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6ED9-3833-45C9-9C01-ADE2B5E8C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F5D9-4D01-4829-A9CD-C7880767B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594F-1D5A-4BF9-A803-62469EB7C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DA3C-D6D5-48D3-997B-409168E0F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7A81-B46B-48B9-A922-BDF28841C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A059-743F-40EB-B3B0-AA9AA07BF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B418-A18D-40E9-BB88-EA3CC7303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2" name="PlaceHolder 1"/>
          <p:cNvSpPr>
            <a:spLocks noGrp="1"/>
          </p:cNvSpPr>
          <p:nvPr>
            <p:ph type="sldImg"/>
          </p:nvPr>
        </p:nvSpPr>
        <p:spPr>
          <a:xfrm>
            <a:off x="985680" y="741240"/>
            <a:ext cx="4886640" cy="3665520"/>
          </a:xfrm>
          <a:prstGeom prst="rect">
            <a:avLst/>
          </a:prstGeom>
          <a:ln w="0">
            <a:noFill/>
          </a:ln>
        </p:spPr>
      </p:sp>
      <p:sp>
        <p:nvSpPr>
          <p:cNvPr id="1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45EE-DB86-4839-9A92-C3556E7CE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5" name="PlaceHolder 1"/>
          <p:cNvSpPr>
            <a:spLocks noGrp="1"/>
          </p:cNvSpPr>
          <p:nvPr>
            <p:ph type="sldImg"/>
          </p:nvPr>
        </p:nvSpPr>
        <p:spPr>
          <a:xfrm>
            <a:off x="985680" y="741240"/>
            <a:ext cx="4886640" cy="3665520"/>
          </a:xfrm>
          <a:prstGeom prst="rect">
            <a:avLst/>
          </a:prstGeom>
          <a:ln w="0">
            <a:noFill/>
          </a:ln>
        </p:spPr>
      </p:sp>
      <p:sp>
        <p:nvSpPr>
          <p:cNvPr id="1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F9EF-96BD-45AE-A02D-3B5C269E8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8" name="PlaceHolder 1"/>
          <p:cNvSpPr>
            <a:spLocks noGrp="1"/>
          </p:cNvSpPr>
          <p:nvPr>
            <p:ph type="sldImg"/>
          </p:nvPr>
        </p:nvSpPr>
        <p:spPr>
          <a:xfrm>
            <a:off x="985680" y="741240"/>
            <a:ext cx="4886640" cy="3665520"/>
          </a:xfrm>
          <a:prstGeom prst="rect">
            <a:avLst/>
          </a:prstGeom>
          <a:ln w="0">
            <a:noFill/>
          </a:ln>
        </p:spPr>
      </p:sp>
      <p:sp>
        <p:nvSpPr>
          <p:cNvPr id="19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09BC-BD70-480A-A639-496D068FF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1" name="PlaceHolder 1"/>
          <p:cNvSpPr>
            <a:spLocks noGrp="1"/>
          </p:cNvSpPr>
          <p:nvPr>
            <p:ph type="sldImg"/>
          </p:nvPr>
        </p:nvSpPr>
        <p:spPr>
          <a:xfrm>
            <a:off x="985680" y="741240"/>
            <a:ext cx="4886640" cy="3665520"/>
          </a:xfrm>
          <a:prstGeom prst="rect">
            <a:avLst/>
          </a:prstGeom>
          <a:ln w="0">
            <a:noFill/>
          </a:ln>
        </p:spPr>
      </p:sp>
      <p:sp>
        <p:nvSpPr>
          <p:cNvPr id="19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1B30-AE2A-4633-8B78-DE14B3A67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4" name="PlaceHolder 1"/>
          <p:cNvSpPr>
            <a:spLocks noGrp="1"/>
          </p:cNvSpPr>
          <p:nvPr>
            <p:ph type="sldImg"/>
          </p:nvPr>
        </p:nvSpPr>
        <p:spPr>
          <a:xfrm>
            <a:off x="985680" y="741240"/>
            <a:ext cx="4886640" cy="3665520"/>
          </a:xfrm>
          <a:prstGeom prst="rect">
            <a:avLst/>
          </a:prstGeom>
          <a:ln w="0">
            <a:noFill/>
          </a:ln>
        </p:spPr>
      </p:sp>
      <p:sp>
        <p:nvSpPr>
          <p:cNvPr id="19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99CB-942F-43B8-95A1-DF7E56613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7" name="PlaceHolder 1"/>
          <p:cNvSpPr>
            <a:spLocks noGrp="1"/>
          </p:cNvSpPr>
          <p:nvPr>
            <p:ph type="sldImg"/>
          </p:nvPr>
        </p:nvSpPr>
        <p:spPr>
          <a:xfrm>
            <a:off x="985680" y="741240"/>
            <a:ext cx="4886640" cy="3665520"/>
          </a:xfrm>
          <a:prstGeom prst="rect">
            <a:avLst/>
          </a:prstGeom>
          <a:ln w="0">
            <a:noFill/>
          </a:ln>
        </p:spPr>
      </p:sp>
      <p:sp>
        <p:nvSpPr>
          <p:cNvPr id="1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702E-92BF-460A-8E30-2A2C60A23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0" name="PlaceHolder 1"/>
          <p:cNvSpPr>
            <a:spLocks noGrp="1"/>
          </p:cNvSpPr>
          <p:nvPr>
            <p:ph type="sldImg"/>
          </p:nvPr>
        </p:nvSpPr>
        <p:spPr>
          <a:xfrm>
            <a:off x="985680" y="741240"/>
            <a:ext cx="4886640" cy="3665520"/>
          </a:xfrm>
          <a:prstGeom prst="rect">
            <a:avLst/>
          </a:prstGeom>
          <a:ln w="0">
            <a:noFill/>
          </a:ln>
        </p:spPr>
      </p:sp>
      <p:sp>
        <p:nvSpPr>
          <p:cNvPr id="2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9EE3-DF1C-46AE-8303-1903E278C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3" name="PlaceHolder 1"/>
          <p:cNvSpPr>
            <a:spLocks noGrp="1"/>
          </p:cNvSpPr>
          <p:nvPr>
            <p:ph type="sldImg"/>
          </p:nvPr>
        </p:nvSpPr>
        <p:spPr>
          <a:xfrm>
            <a:off x="985680" y="741240"/>
            <a:ext cx="4886640" cy="3665520"/>
          </a:xfrm>
          <a:prstGeom prst="rect">
            <a:avLst/>
          </a:prstGeom>
          <a:ln w="0">
            <a:noFill/>
          </a:ln>
        </p:spPr>
      </p:sp>
      <p:sp>
        <p:nvSpPr>
          <p:cNvPr id="2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370E-AE0A-4C2B-82BF-1678112B0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513F-B64E-4652-85B7-2BE7F74DB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6" name="PlaceHolder 1"/>
          <p:cNvSpPr>
            <a:spLocks noGrp="1"/>
          </p:cNvSpPr>
          <p:nvPr>
            <p:ph type="sldImg"/>
          </p:nvPr>
        </p:nvSpPr>
        <p:spPr>
          <a:xfrm>
            <a:off x="985680" y="741240"/>
            <a:ext cx="4886640" cy="3665520"/>
          </a:xfrm>
          <a:prstGeom prst="rect">
            <a:avLst/>
          </a:prstGeom>
          <a:ln w="0">
            <a:noFill/>
          </a:ln>
        </p:spPr>
      </p:sp>
      <p:sp>
        <p:nvSpPr>
          <p:cNvPr id="2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B29A-EC4F-4E88-A72B-96E0A58D3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9" name="PlaceHolder 1"/>
          <p:cNvSpPr>
            <a:spLocks noGrp="1"/>
          </p:cNvSpPr>
          <p:nvPr>
            <p:ph type="sldImg"/>
          </p:nvPr>
        </p:nvSpPr>
        <p:spPr>
          <a:xfrm>
            <a:off x="985680" y="741240"/>
            <a:ext cx="4886640" cy="3665520"/>
          </a:xfrm>
          <a:prstGeom prst="rect">
            <a:avLst/>
          </a:prstGeom>
          <a:ln w="0">
            <a:noFill/>
          </a:ln>
        </p:spPr>
      </p:sp>
      <p:sp>
        <p:nvSpPr>
          <p:cNvPr id="2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246E-7964-421C-90C0-AE2D29152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2" name="PlaceHolder 1"/>
          <p:cNvSpPr>
            <a:spLocks noGrp="1"/>
          </p:cNvSpPr>
          <p:nvPr>
            <p:ph type="sldImg"/>
          </p:nvPr>
        </p:nvSpPr>
        <p:spPr>
          <a:xfrm>
            <a:off x="985680" y="741240"/>
            <a:ext cx="4886640" cy="3665520"/>
          </a:xfrm>
          <a:prstGeom prst="rect">
            <a:avLst/>
          </a:prstGeom>
          <a:ln w="0">
            <a:noFill/>
          </a:ln>
        </p:spPr>
      </p:sp>
      <p:sp>
        <p:nvSpPr>
          <p:cNvPr id="2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8C40-BEC3-45DB-9CA0-A0D0B437A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5" name="PlaceHolder 1"/>
          <p:cNvSpPr>
            <a:spLocks noGrp="1"/>
          </p:cNvSpPr>
          <p:nvPr>
            <p:ph type="sldImg"/>
          </p:nvPr>
        </p:nvSpPr>
        <p:spPr>
          <a:xfrm>
            <a:off x="985680" y="741240"/>
            <a:ext cx="4886640" cy="3665520"/>
          </a:xfrm>
          <a:prstGeom prst="rect">
            <a:avLst/>
          </a:prstGeom>
          <a:ln w="0">
            <a:noFill/>
          </a:ln>
        </p:spPr>
      </p:sp>
      <p:sp>
        <p:nvSpPr>
          <p:cNvPr id="2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FA6E-623B-448A-B2EA-043D504CB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AD9A-89EF-4D2C-910A-60EB0CA8E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43A7-A1E3-4431-9035-EA97C24A7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8523-541E-4FE8-BED9-07013C476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C5F7-E26F-41ED-8E42-96B30C9EF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E688-0227-4BA2-9787-83EF80225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757F-FE35-46E6-B67D-45CCFA9D5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54DF-F5CF-45D6-A0BC-4FD325DCD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B498-9783-4DB2-B345-A14264B5D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286E-A8A4-46DD-A92C-CE1FE3647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F5C2-07B7-4BBB-B37B-09C7AB17D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E622-DF29-48B2-80EA-0259CE9BD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A5B9-2336-4AAA-B496-F4E783649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23C0-1F98-48D0-8CB7-AD6C58725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05A4-2C16-4061-B04C-C84A66E1F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8B56-9575-4BA0-9610-E57E3A95B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95A2-DD43-4ABE-AB3A-ED26D37EA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863A-C256-45CC-A36E-0B65D7E9A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EA8E-625D-49C3-8C21-F8E3D7A72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3A94-C483-4B87-A4AC-3922D8407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7752-D852-4D00-819A-769EB64CE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F752-676C-4A51-855A-FEC7CC161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F874-A227-4B53-870E-8654135CD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F797-8A3A-4181-8B69-36B3FB69A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D24C-BA87-47E5-BD88-B8D88A843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053D-A78A-4EAC-8C91-9641FBEAC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30ED-3C1B-4861-B8E2-E952C6A98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E9E6-8D31-4E2C-A4C9-91473659E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8640-8E05-4BCD-A3C6-4BCCF55FD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E9C0-F52C-436D-BF03-EB6A30DC7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F3A1-239F-4BA4-8584-4C465F97C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66EA-01CD-4A90-A122-A51FAA31C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83AE-149C-4444-B5B6-9BFB81E9A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7320-FD7D-40FC-944E-886FACB21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2E32-6F29-45E2-BB70-8123F2630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A694-F0C1-4514-8045-328622661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7BBD-1D07-42CD-A152-EA01CBED1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3D39-EA6E-4ACA-8D4A-4F061C566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1114-3B54-4EEA-8AF0-DC6F353DB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3E27-B032-43F0-BB64-B11AEC4B5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74E5-8AD4-4757-BBED-B8C6ED31C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3947-CC54-4CE3-890D-3EB9CCCB3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06D5-E345-4343-B379-821AFA6C9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F5BA-8CD1-4AB3-9EA9-EAC2B769D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0641-0154-481A-B179-D3DDCCC7C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3EFB-41FA-46CC-96C2-DD6776A4E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96DD-3AD1-45C1-B972-2610DA55C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46C1-B630-4E04-8CC2-F93574513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B6CD-7F97-4E79-B790-6F426A076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23C7-9692-4071-813D-DA19F114E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6C6F-93B8-403E-B4E8-E08632C2C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172B-014F-458E-AD5E-42EE6F56D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B224-57C8-40E6-8EB0-46D66AF18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B4D3-A325-4C40-9343-BAFA6EF74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95F4-2078-4242-AAAB-831EDA723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AF54-CA27-4DFB-B3CB-86C5FDCC0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7336-44CA-446C-9440-154EB541B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7484-78A3-4BA5-AA6F-2512DE291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419F-0111-4BE5-B883-D2A995209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07B8-EEFE-412D-AC6E-2C3327EEF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36AE-241F-48D7-8580-082067BDF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210D-16CF-476A-8C4F-526417540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3A95-3FB5-4BA3-B17F-817D880EA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DA48-25E2-4138-AE9C-0FE006603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D240-9BE5-4D8A-8D36-9F9B627ED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DF01-B3E3-4C60-A4AC-7D92EA19A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74E6-99E6-4F22-9248-6344A267F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647A-C0E3-47F0-BB32-67BA14F3F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8D36-0069-4DDA-AE95-C29FDCD89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D686-C5F6-4E01-A3B0-5A3199DE1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3652-2D5F-4B3A-AAB2-F48B16431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D2A0-9D0B-49C3-B240-45EA93C90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1353-8F3A-47DF-B4EC-CB601316F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8261-2134-46ED-B83D-C4C865DA6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0984-243F-4E6F-AFB8-69D306B9A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DC6D-98D2-4B91-BCB9-BD297310A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227E-E20A-45E7-97CB-142C43087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A001-171D-41AE-89AA-5527E1AE3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556E-B2CD-4B15-8D63-81198703A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B8CE-AA16-42FD-9192-17BCC7401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D7BB-F712-423F-9326-C4F39F68B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BC51-EB68-4768-A41E-CD6D77C85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2E58-2533-462B-821F-89F80540D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1C29-DB2E-4271-A540-E241AF3FA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AA0E-9672-4D46-B34E-4987E5979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D356-EFF5-44AA-B917-393C0DF9D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D15D-8A86-46D8-90D9-F53EFAECC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5377-2A38-48F3-9C20-952667B10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C660-6A6A-4737-BEAB-581249FC3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B0BA-1D3B-4D0D-BEA1-6E720FD45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444E-02A7-4E40-8AFE-C0B220B50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E57C-604D-4CA5-9A46-9BE027ED1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FD10-385F-402B-B0E1-BFB27BE11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C41D-3EF6-40AF-BD66-682ACF4C0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8032-0BBA-421E-A384-C1A0E74CA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DC498-5350-4CFB-9DFA-7E9429664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AAF0A-E02B-4F2C-B49A-0423109D2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399F82-289F-4E47-8A2D-A3DBF0952F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9578DA-ACE6-410E-B1EF-4562FC7D08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EE0B47-2C48-49CB-8B1E-907A2EB609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8030DB-2640-4AC6-891B-C227E2AB5D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7EC7AD-3E5E-4ECB-BAB1-7F703BD4E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5A98FF-F166-4043-B0BC-449BB5E8D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4EC8B6-6866-4DA6-9A53-E241D1AB8F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43F379-FBE3-4FE9-B329-9D4D5A783A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9EF04D-73FD-4038-A230-36C3071707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036C8A-A2EE-4A4A-B23F-5D3140DD5E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36E74-08EB-499C-BD1C-4CD80CDEA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6A857E-A715-45B0-94CA-1A5151DCAE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F98756-A2B7-491B-BC28-E7D34CACB2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D62622-6CBE-4CEB-9ACC-57817CBCC1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3234C9-EB82-4890-B7E0-869F79552F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7FA8A2-1883-4B28-ABA1-395686DBAF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CC646E-431A-453E-A384-9315FB60EB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DB07C7-D73B-48F2-B03F-EBF24BB6C8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79AB3B-7577-42D2-BFCA-13B02A8793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C48B43-AA7B-48C1-8AF9-6F602ED96D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84DBFD-A76C-4851-A29C-0CF089B3D8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CBF2E-8A7C-4B04-8786-A97476BAE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DE8343-5D18-408E-88BF-C59CB87CCE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F186EE-B12F-4AAA-80F2-8B11BA78C7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7F7CAB-A3F5-4A8E-BE67-4410783C89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B5C75B-C4E2-4678-8D7C-6144132F19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2F83FE-51E0-446B-A837-21C451C5C3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92EBC7-3CE2-445D-B885-A4B6A928E0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51F3FD-E6A2-4A5F-BDB8-C50AAD7D59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C605F-282E-4D1E-936F-A014A77F5B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8A6697-561F-4EEB-82FA-4CA38423D2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4FD7CB-FE58-4391-BAAF-B957DC90B8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EB858-DE15-4808-A550-90DAD855F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7E7012-3D87-4A15-9926-46C69541F0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4FAE91-DB7B-4D79-B0BD-19D044A051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05F65B-244E-4C4E-A072-12293A660B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B39C26-CC47-415A-AF86-84AF3A4FC6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6380C4-03EA-4F1E-AC55-AEB27C6454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036D78-63CA-4097-916A-3E13AECD8A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A9CCDE-FE82-48EF-9F9F-2D66424018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55C1D5-DC2C-40CE-B8DB-FF9370BD0E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CB09D3-C044-4EE0-A079-F1BBEB885A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9945B2-62A4-4DC4-B63D-B954C1987C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4791F-8414-4C8E-B511-A2A7F6ECD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E94F4F-7A2B-4B72-89ED-0DA9B14BD7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63AFED-C808-493B-B66C-35BEA0685E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D77D88-9FDB-4EE5-8926-3E42C995E4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7C79909-A70E-46DB-AA9C-7049E9AAF3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926A1B-8C2E-4E3F-89FD-0CF6337099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883F39CC-6297-4FB4-B70A-7B93A5467CCA}"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2B8A6E4-D6BA-4BCA-BC84-32BDCBF11F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1515EAA-E0F0-4A99-A190-48C9DC4212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773B026C-4C10-48E0-9258-55DD3B7732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9C774A1-A3C2-4F11-BC16-F1A9410FD10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E2964-1D22-490F-9276-7CA448C23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8BF83535-EFCE-4517-B14B-7C3697086FA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7AEAB22-27B1-4F17-8347-848C3448AB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52EBB69-ADAE-4F2A-BC70-64E9F24C628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8FD4F85-49F7-4484-9095-94E9E15B26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5869BC0-0300-4714-81A7-3112BBDD7B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6A1C9FC6-7969-4612-B71F-D276D6B677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F2126E7A-90C4-4051-95A3-487E8BEBCC26}"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1C116-6273-42B2-8C69-4C30B5702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9A54A-02C0-4CE6-B89F-1F6E7E22D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55E57-F81C-40FB-B346-5489D60D7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E7DF0-5206-43C9-9489-B3C1CF601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AAABD-88B8-48E1-8463-A2C3D92AD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02A7B-3F9B-4ABF-85DD-4559D7D7D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E4E2A-2023-4B10-9E1C-DE1AC543E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B56E7-DBD1-4DFC-ABFA-357C12B3D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87969-C8C2-4634-AB99-ECE58CC72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C7646-4B66-45FE-AED6-E782F3551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499D7A-FD82-46A9-9D8A-36CD9DAD40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444C06-8836-4B1E-A022-F332EDE680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217811-DE4F-4743-80BF-11D8CBB8B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61127-599E-4743-A6FD-69130DB04A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C06D3-52D4-4D17-911C-6CAAF8F879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A6052-FAE8-4FF2-8332-F7FB2D302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2189E-1977-496C-A09D-8E0057866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694D7-B877-477E-B2C5-62097247A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A9533-480E-43DD-B2E2-67969ED92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89C24-8FA8-41EE-AF26-0131DF7FA2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ADBCF-924D-45F7-988D-7C76FF567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D4F1CC-4AD6-495A-8ED0-B80243ABA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038911-E562-49F2-85BC-FBFF5A17D0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351E12-FC4C-4845-BDFF-BC279B821E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30678-0369-4AE4-9ACD-475D05B72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F7D9D-56C6-47C4-8F6F-BFD3D93021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31BF3-CCE1-4A73-9832-D4E126D5C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5C17C-F732-4C90-9B60-83A340F87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96E68-AD54-4F7B-8B8D-373DB34A2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05F60-45B4-4DCC-8AC6-EDA5302EF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9E4E1-6B06-47B5-9931-D31429F16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24BC9-C08C-4A5F-B197-A1B39C917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B15EB-19BF-45FB-9008-7F2C37032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93A1E-284F-4092-897B-55770D26D8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7A43F3-1CAB-452C-AB96-B66904C59F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BF098C-ABB2-44D9-BAFB-260100A95F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B52300-DC14-40B8-90C6-69BB43D57B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28A70-9B0D-4520-ADD8-9EE62C88B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8E9CF-4CA0-4B96-BADF-08D6A14982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AE3A45-580E-45E5-96A9-04189BEEA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9BF592-94D5-4A96-ACA0-9D5A9BDB1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D24EE-4C96-4B01-9E5F-C1864331EF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4946E-FE68-43D0-9ACA-4C70CF18E1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40D7B-D66A-470A-BADE-D5E2088FB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45077-16DE-4847-9127-FF3F388F29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C5CC3-2746-4730-9039-CD24171C7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50871-2C5B-405A-B0E4-7FC493E4D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EBD483-3E5D-424D-908F-CECE466011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8425F-C25F-42BC-9E6C-4D71D4AAE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020984-8859-4E92-BD8E-A1528C0072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44C8A9-A4A9-4326-AF34-571A841A69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660150-1F23-4B87-9B62-0FCA2EEA6E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60551-5ABA-420A-BAE1-A2A7CB31A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7F1451-7E44-4A54-99F5-B0D2D0C32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1295FB-DD74-453F-8F8E-85FF303BE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12467B-CDE5-44BA-8C80-B982748EDB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58348-9F39-4352-8B8B-AB4882E73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D29B7-E2DD-4846-B225-E18A41F29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7EFAA-C601-4191-BA0F-1D0ED5EB9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6B4D-8FDF-45B5-8BBE-259EA735D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D22D44-5AEA-406E-A24F-C3AABBE16D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869EC1-2702-4B06-9283-B2D6D450CC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7024EC-E107-4CD0-83F8-EBF8C5CE62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D64B58-14FD-4C92-8527-3C1B5A3542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3D5D64-2478-45F1-8F87-23A3F6DDB8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272211-AC23-47FD-9A4C-EBF30D200F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F467C-5B5C-4A98-9817-8D47B90060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FC87C2-5869-47D9-A3E9-B7E92197FB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220151-EF4C-4FC1-9CCB-A232DF9A15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16CF4D-B87D-496D-AC38-91C7E9CD9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E32EE-E438-408A-A4F1-FEECD61CE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37540-1AFF-46E2-B514-8C9C3CE09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33453-C9C0-42AA-88A5-0AF9570E9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3D38BD-1F9B-41CC-9B7A-21A9EEEA8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578DC2-F79D-40CC-B1B9-A5AA6D84B8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4B6D84-CAEB-4FBA-AFDC-A8E67E21B4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31588D-3AB8-4973-8697-4D9C36DF42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230BAE-3D7A-4575-875B-C096EADDA6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4F6DD9-310B-47A3-AA24-523F4CFF4C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42E448-C36E-481F-9A28-AD38B7DBF5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8BFBC-D26D-46E6-ABBF-0F1F3DF35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CCA03-4EBA-4C87-8775-835C1FB0E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EE80FE-1704-4198-A2DA-843CAD5F9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1F4C0-BF5B-4301-9D08-76108BDB1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6AB30D-4501-439A-AE1B-EF2AB92378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8B67CE-8BC8-4D68-A1F8-85BD01E6A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EFFB48-4575-46D5-BEA6-A8F35B20B9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9E738C-0C87-412A-868E-410D40FF0D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F0798F-3DA7-4F54-881E-A48989A3F4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5E6758-532E-4C31-8FDB-499BCAEDBB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402557-ED21-48AE-882B-DBCC20C9F6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4F8EF8-38CE-4471-8E0F-76CA5981AC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DC12-A495-40EB-B38C-62ED7D4A473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F7D7-1D15-4AC7-9468-57BBB75491C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65BF-144A-4793-9B81-B9DA8FA192E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F8BD-6A10-4322-AF01-741FAB7873E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4AF3-5433-44EE-91A6-2DDA4EAC7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1D63-0FF1-45D0-ACD4-8AD8EF33A9A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549D-6EEC-4D1C-A54C-62A53DD685E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1850-117F-4500-968F-4E465EF1908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51E6-C10B-4DF8-BAFA-91EA1D06269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4083-8387-4435-A7AB-C91A29D41D8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0449-1E45-4966-9A3B-3CFB1E34D15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2861-3047-4807-9943-BA109AE8841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0EA4-DCD8-4FD5-B513-6E725355AA2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8" name="Ομάδα 1"/>
          <p:cNvGrpSpPr/>
          <p:nvPr/>
        </p:nvGrpSpPr>
        <p:grpSpPr>
          <a:xfrm>
            <a:off x="0" y="115920"/>
            <a:ext cx="9144000" cy="6551640"/>
            <a:chOff x="0" y="115920"/>
            <a:chExt cx="9144000" cy="6551640"/>
          </a:xfrm>
        </p:grpSpPr>
        <p:grpSp>
          <p:nvGrpSpPr>
            <p:cNvPr id="1439" name="Ομάδα 1"/>
            <p:cNvGrpSpPr/>
            <p:nvPr/>
          </p:nvGrpSpPr>
          <p:grpSpPr>
            <a:xfrm>
              <a:off x="0" y="115920"/>
              <a:ext cx="9144000" cy="6551640"/>
              <a:chOff x="0" y="115920"/>
              <a:chExt cx="9144000" cy="6551640"/>
            </a:xfrm>
          </p:grpSpPr>
          <p:sp>
            <p:nvSpPr>
              <p:cNvPr id="14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5" name="9 - Εικόνα" descr=""/>
          <p:cNvPicPr/>
          <p:nvPr/>
        </p:nvPicPr>
        <p:blipFill>
          <a:blip r:embed="rId3"/>
          <a:stretch/>
        </p:blipFill>
        <p:spPr>
          <a:xfrm>
            <a:off x="250920" y="333360"/>
            <a:ext cx="1417680" cy="879480"/>
          </a:xfrm>
          <a:prstGeom prst="rect">
            <a:avLst/>
          </a:prstGeom>
          <a:ln w="0">
            <a:noFill/>
          </a:ln>
        </p:spPr>
      </p:pic>
      <p:sp>
        <p:nvSpPr>
          <p:cNvPr id="1446" name="PlaceHolder 1"/>
          <p:cNvSpPr>
            <a:spLocks noGrp="1"/>
          </p:cNvSpPr>
          <p:nvPr>
            <p:ph type="title"/>
          </p:nvPr>
        </p:nvSpPr>
        <p:spPr>
          <a:xfrm>
            <a:off x="539640" y="1603080"/>
            <a:ext cx="8136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7" name="Ομάδα 1"/>
          <p:cNvGrpSpPr/>
          <p:nvPr/>
        </p:nvGrpSpPr>
        <p:grpSpPr>
          <a:xfrm>
            <a:off x="0" y="115920"/>
            <a:ext cx="9144000" cy="6551640"/>
            <a:chOff x="0" y="115920"/>
            <a:chExt cx="9144000" cy="6551640"/>
          </a:xfrm>
        </p:grpSpPr>
        <p:grpSp>
          <p:nvGrpSpPr>
            <p:cNvPr id="1448" name="Ομάδα 1"/>
            <p:cNvGrpSpPr/>
            <p:nvPr/>
          </p:nvGrpSpPr>
          <p:grpSpPr>
            <a:xfrm>
              <a:off x="0" y="115920"/>
              <a:ext cx="9144000" cy="6551640"/>
              <a:chOff x="0" y="115920"/>
              <a:chExt cx="9144000" cy="6551640"/>
            </a:xfrm>
          </p:grpSpPr>
          <p:sp>
            <p:nvSpPr>
              <p:cNvPr id="14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4" name="9 - Εικόνα" descr=""/>
          <p:cNvPicPr/>
          <p:nvPr/>
        </p:nvPicPr>
        <p:blipFill>
          <a:blip r:embed="rId3"/>
          <a:stretch/>
        </p:blipFill>
        <p:spPr>
          <a:xfrm>
            <a:off x="250920" y="333360"/>
            <a:ext cx="1417680" cy="879480"/>
          </a:xfrm>
          <a:prstGeom prst="rect">
            <a:avLst/>
          </a:prstGeom>
          <a:ln w="0">
            <a:noFill/>
          </a:ln>
        </p:spPr>
      </p:pic>
      <p:sp>
        <p:nvSpPr>
          <p:cNvPr id="1455" name="PlaceHolder 1"/>
          <p:cNvSpPr>
            <a:spLocks noGrp="1"/>
          </p:cNvSpPr>
          <p:nvPr>
            <p:ph type="title"/>
          </p:nvPr>
        </p:nvSpPr>
        <p:spPr>
          <a:xfrm>
            <a:off x="539640" y="2249280"/>
            <a:ext cx="813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6" name="Ομάδα 1"/>
          <p:cNvGrpSpPr/>
          <p:nvPr/>
        </p:nvGrpSpPr>
        <p:grpSpPr>
          <a:xfrm>
            <a:off x="0" y="115920"/>
            <a:ext cx="9144000" cy="6551640"/>
            <a:chOff x="0" y="115920"/>
            <a:chExt cx="9144000" cy="6551640"/>
          </a:xfrm>
        </p:grpSpPr>
        <p:grpSp>
          <p:nvGrpSpPr>
            <p:cNvPr id="1457" name="Ομάδα 1"/>
            <p:cNvGrpSpPr/>
            <p:nvPr/>
          </p:nvGrpSpPr>
          <p:grpSpPr>
            <a:xfrm>
              <a:off x="0" y="115920"/>
              <a:ext cx="9144000" cy="6551640"/>
              <a:chOff x="0" y="115920"/>
              <a:chExt cx="9144000" cy="6551640"/>
            </a:xfrm>
          </p:grpSpPr>
          <p:sp>
            <p:nvSpPr>
              <p:cNvPr id="14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3" name="9 - Εικόνα" descr=""/>
          <p:cNvPicPr/>
          <p:nvPr/>
        </p:nvPicPr>
        <p:blipFill>
          <a:blip r:embed="rId3"/>
          <a:stretch/>
        </p:blipFill>
        <p:spPr>
          <a:xfrm>
            <a:off x="250920" y="333360"/>
            <a:ext cx="1417680" cy="879480"/>
          </a:xfrm>
          <a:prstGeom prst="rect">
            <a:avLst/>
          </a:prstGeom>
          <a:ln w="0">
            <a:noFill/>
          </a:ln>
        </p:spPr>
      </p:pic>
      <p:sp>
        <p:nvSpPr>
          <p:cNvPr id="1464" name="PlaceHolder 1"/>
          <p:cNvSpPr>
            <a:spLocks noGrp="1"/>
          </p:cNvSpPr>
          <p:nvPr>
            <p:ph type="title"/>
          </p:nvPr>
        </p:nvSpPr>
        <p:spPr>
          <a:xfrm>
            <a:off x="468000" y="1603080"/>
            <a:ext cx="84200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5" name="Ομάδα 1"/>
          <p:cNvGrpSpPr/>
          <p:nvPr/>
        </p:nvGrpSpPr>
        <p:grpSpPr>
          <a:xfrm>
            <a:off x="0" y="115920"/>
            <a:ext cx="9144000" cy="6551640"/>
            <a:chOff x="0" y="115920"/>
            <a:chExt cx="9144000" cy="6551640"/>
          </a:xfrm>
        </p:grpSpPr>
        <p:grpSp>
          <p:nvGrpSpPr>
            <p:cNvPr id="1466" name="Ομάδα 1"/>
            <p:cNvGrpSpPr/>
            <p:nvPr/>
          </p:nvGrpSpPr>
          <p:grpSpPr>
            <a:xfrm>
              <a:off x="0" y="115920"/>
              <a:ext cx="9144000" cy="6551640"/>
              <a:chOff x="0" y="115920"/>
              <a:chExt cx="9144000" cy="6551640"/>
            </a:xfrm>
          </p:grpSpPr>
          <p:sp>
            <p:nvSpPr>
              <p:cNvPr id="14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2" name="9 - Εικόνα" descr=""/>
          <p:cNvPicPr/>
          <p:nvPr/>
        </p:nvPicPr>
        <p:blipFill>
          <a:blip r:embed="rId3"/>
          <a:stretch/>
        </p:blipFill>
        <p:spPr>
          <a:xfrm>
            <a:off x="250920" y="333360"/>
            <a:ext cx="1417680" cy="879480"/>
          </a:xfrm>
          <a:prstGeom prst="rect">
            <a:avLst/>
          </a:prstGeom>
          <a:ln w="0">
            <a:noFill/>
          </a:ln>
        </p:spPr>
      </p:pic>
      <p:sp>
        <p:nvSpPr>
          <p:cNvPr id="1473" name="PlaceHolder 1"/>
          <p:cNvSpPr>
            <a:spLocks noGrp="1"/>
          </p:cNvSpPr>
          <p:nvPr>
            <p:ph type="title"/>
          </p:nvPr>
        </p:nvSpPr>
        <p:spPr>
          <a:xfrm>
            <a:off x="539640" y="2033280"/>
            <a:ext cx="7920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4" name="Ομάδα 1"/>
          <p:cNvGrpSpPr/>
          <p:nvPr/>
        </p:nvGrpSpPr>
        <p:grpSpPr>
          <a:xfrm>
            <a:off x="0" y="115920"/>
            <a:ext cx="9144000" cy="6551640"/>
            <a:chOff x="0" y="115920"/>
            <a:chExt cx="9144000" cy="6551640"/>
          </a:xfrm>
        </p:grpSpPr>
        <p:grpSp>
          <p:nvGrpSpPr>
            <p:cNvPr id="1475" name="Ομάδα 1"/>
            <p:cNvGrpSpPr/>
            <p:nvPr/>
          </p:nvGrpSpPr>
          <p:grpSpPr>
            <a:xfrm>
              <a:off x="0" y="115920"/>
              <a:ext cx="9144000" cy="6551640"/>
              <a:chOff x="0" y="115920"/>
              <a:chExt cx="9144000" cy="6551640"/>
            </a:xfrm>
          </p:grpSpPr>
          <p:sp>
            <p:nvSpPr>
              <p:cNvPr id="14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1" name="9 - Εικόνα" descr=""/>
          <p:cNvPicPr/>
          <p:nvPr/>
        </p:nvPicPr>
        <p:blipFill>
          <a:blip r:embed="rId3"/>
          <a:stretch/>
        </p:blipFill>
        <p:spPr>
          <a:xfrm>
            <a:off x="250920" y="333360"/>
            <a:ext cx="1417680" cy="879480"/>
          </a:xfrm>
          <a:prstGeom prst="rect">
            <a:avLst/>
          </a:prstGeom>
          <a:ln w="0">
            <a:noFill/>
          </a:ln>
        </p:spPr>
      </p:pic>
      <p:sp>
        <p:nvSpPr>
          <p:cNvPr id="1482"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3" name="Ομάδα 1"/>
          <p:cNvGrpSpPr/>
          <p:nvPr/>
        </p:nvGrpSpPr>
        <p:grpSpPr>
          <a:xfrm>
            <a:off x="0" y="115920"/>
            <a:ext cx="9144000" cy="6551640"/>
            <a:chOff x="0" y="115920"/>
            <a:chExt cx="9144000" cy="6551640"/>
          </a:xfrm>
        </p:grpSpPr>
        <p:grpSp>
          <p:nvGrpSpPr>
            <p:cNvPr id="1484" name="Ομάδα 1"/>
            <p:cNvGrpSpPr/>
            <p:nvPr/>
          </p:nvGrpSpPr>
          <p:grpSpPr>
            <a:xfrm>
              <a:off x="0" y="115920"/>
              <a:ext cx="9144000" cy="6551640"/>
              <a:chOff x="0" y="115920"/>
              <a:chExt cx="9144000" cy="6551640"/>
            </a:xfrm>
          </p:grpSpPr>
          <p:sp>
            <p:nvSpPr>
              <p:cNvPr id="14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9" name="Rectangle 1"/>
          <p:cNvSpPr/>
          <p:nvPr/>
        </p:nvSpPr>
        <p:spPr>
          <a:xfrm>
            <a:off x="105876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9 - Εικόνα" descr=""/>
          <p:cNvPicPr/>
          <p:nvPr/>
        </p:nvPicPr>
        <p:blipFill>
          <a:blip r:embed="rId3"/>
          <a:stretch/>
        </p:blipFill>
        <p:spPr>
          <a:xfrm>
            <a:off x="250920" y="333360"/>
            <a:ext cx="1417680" cy="879480"/>
          </a:xfrm>
          <a:prstGeom prst="rect">
            <a:avLst/>
          </a:prstGeom>
          <a:ln w="0">
            <a:noFill/>
          </a:ln>
        </p:spPr>
      </p:pic>
      <p:sp>
        <p:nvSpPr>
          <p:cNvPr id="1491" name="PlaceHolder 1"/>
          <p:cNvSpPr>
            <a:spLocks noGrp="1"/>
          </p:cNvSpPr>
          <p:nvPr>
            <p:ph type="title"/>
          </p:nvPr>
        </p:nvSpPr>
        <p:spPr>
          <a:xfrm>
            <a:off x="539640" y="2095200"/>
            <a:ext cx="792000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2" name="Ομάδα 1"/>
          <p:cNvGrpSpPr/>
          <p:nvPr/>
        </p:nvGrpSpPr>
        <p:grpSpPr>
          <a:xfrm>
            <a:off x="0" y="115920"/>
            <a:ext cx="9144000" cy="6551640"/>
            <a:chOff x="0" y="115920"/>
            <a:chExt cx="9144000" cy="6551640"/>
          </a:xfrm>
        </p:grpSpPr>
        <p:grpSp>
          <p:nvGrpSpPr>
            <p:cNvPr id="1493" name="Ομάδα 1"/>
            <p:cNvGrpSpPr/>
            <p:nvPr/>
          </p:nvGrpSpPr>
          <p:grpSpPr>
            <a:xfrm>
              <a:off x="0" y="115920"/>
              <a:ext cx="9144000" cy="6551640"/>
              <a:chOff x="0" y="115920"/>
              <a:chExt cx="9144000" cy="6551640"/>
            </a:xfrm>
          </p:grpSpPr>
          <p:sp>
            <p:nvSpPr>
              <p:cNvPr id="14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9" name="9 - Εικόνα" descr=""/>
          <p:cNvPicPr/>
          <p:nvPr/>
        </p:nvPicPr>
        <p:blipFill>
          <a:blip r:embed="rId3"/>
          <a:stretch/>
        </p:blipFill>
        <p:spPr>
          <a:xfrm>
            <a:off x="250920" y="333360"/>
            <a:ext cx="1417680" cy="879480"/>
          </a:xfrm>
          <a:prstGeom prst="rect">
            <a:avLst/>
          </a:prstGeom>
          <a:ln w="0">
            <a:noFill/>
          </a:ln>
        </p:spPr>
      </p:pic>
      <p:sp>
        <p:nvSpPr>
          <p:cNvPr id="1500" name="PlaceHolder 1"/>
          <p:cNvSpPr>
            <a:spLocks noGrp="1"/>
          </p:cNvSpPr>
          <p:nvPr>
            <p:ph type="title"/>
          </p:nvPr>
        </p:nvSpPr>
        <p:spPr>
          <a:xfrm>
            <a:off x="250920" y="1176120"/>
            <a:ext cx="8208720" cy="47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1" name="Ομάδα 1"/>
          <p:cNvGrpSpPr/>
          <p:nvPr/>
        </p:nvGrpSpPr>
        <p:grpSpPr>
          <a:xfrm>
            <a:off x="0" y="115920"/>
            <a:ext cx="9144000" cy="6551640"/>
            <a:chOff x="0" y="115920"/>
            <a:chExt cx="9144000" cy="6551640"/>
          </a:xfrm>
        </p:grpSpPr>
        <p:grpSp>
          <p:nvGrpSpPr>
            <p:cNvPr id="1502" name="Ομάδα 1"/>
            <p:cNvGrpSpPr/>
            <p:nvPr/>
          </p:nvGrpSpPr>
          <p:grpSpPr>
            <a:xfrm>
              <a:off x="0" y="115920"/>
              <a:ext cx="9144000" cy="6551640"/>
              <a:chOff x="0" y="115920"/>
              <a:chExt cx="9144000" cy="6551640"/>
            </a:xfrm>
          </p:grpSpPr>
          <p:sp>
            <p:nvSpPr>
              <p:cNvPr id="15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9 - Εικόνα" descr=""/>
          <p:cNvPicPr/>
          <p:nvPr/>
        </p:nvPicPr>
        <p:blipFill>
          <a:blip r:embed="rId3"/>
          <a:stretch/>
        </p:blipFill>
        <p:spPr>
          <a:xfrm>
            <a:off x="250920" y="333360"/>
            <a:ext cx="1417680" cy="879480"/>
          </a:xfrm>
          <a:prstGeom prst="rect">
            <a:avLst/>
          </a:prstGeom>
          <a:ln w="0">
            <a:noFill/>
          </a:ln>
        </p:spPr>
      </p:pic>
      <p:sp>
        <p:nvSpPr>
          <p:cNvPr id="1509"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0" name="Ομάδα 1"/>
          <p:cNvGrpSpPr/>
          <p:nvPr/>
        </p:nvGrpSpPr>
        <p:grpSpPr>
          <a:xfrm>
            <a:off x="0" y="115920"/>
            <a:ext cx="9144000" cy="6551640"/>
            <a:chOff x="0" y="115920"/>
            <a:chExt cx="9144000" cy="6551640"/>
          </a:xfrm>
        </p:grpSpPr>
        <p:grpSp>
          <p:nvGrpSpPr>
            <p:cNvPr id="1511" name="Ομάδα 1"/>
            <p:cNvGrpSpPr/>
            <p:nvPr/>
          </p:nvGrpSpPr>
          <p:grpSpPr>
            <a:xfrm>
              <a:off x="0" y="115920"/>
              <a:ext cx="9144000" cy="6551640"/>
              <a:chOff x="0" y="115920"/>
              <a:chExt cx="9144000" cy="6551640"/>
            </a:xfrm>
          </p:grpSpPr>
          <p:sp>
            <p:nvSpPr>
              <p:cNvPr id="15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7" name="9 - Εικόνα" descr=""/>
          <p:cNvPicPr/>
          <p:nvPr/>
        </p:nvPicPr>
        <p:blipFill>
          <a:blip r:embed="rId3"/>
          <a:stretch/>
        </p:blipFill>
        <p:spPr>
          <a:xfrm>
            <a:off x="250920" y="333360"/>
            <a:ext cx="1417680" cy="879480"/>
          </a:xfrm>
          <a:prstGeom prst="rect">
            <a:avLst/>
          </a:prstGeom>
          <a:ln w="0">
            <a:noFill/>
          </a:ln>
        </p:spPr>
      </p:pic>
      <p:sp>
        <p:nvSpPr>
          <p:cNvPr id="1518" name="PlaceHolder 1"/>
          <p:cNvSpPr>
            <a:spLocks noGrp="1"/>
          </p:cNvSpPr>
          <p:nvPr>
            <p:ph type="title"/>
          </p:nvPr>
        </p:nvSpPr>
        <p:spPr>
          <a:xfrm>
            <a:off x="610920" y="2065320"/>
            <a:ext cx="784836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Ομάδα 1"/>
          <p:cNvGrpSpPr/>
          <p:nvPr/>
        </p:nvGrpSpPr>
        <p:grpSpPr>
          <a:xfrm>
            <a:off x="0" y="115920"/>
            <a:ext cx="9144000" cy="6551640"/>
            <a:chOff x="0" y="115920"/>
            <a:chExt cx="9144000" cy="6551640"/>
          </a:xfrm>
        </p:grpSpPr>
        <p:grpSp>
          <p:nvGrpSpPr>
            <p:cNvPr id="1520" name="Ομάδα 1"/>
            <p:cNvGrpSpPr/>
            <p:nvPr/>
          </p:nvGrpSpPr>
          <p:grpSpPr>
            <a:xfrm>
              <a:off x="0" y="115920"/>
              <a:ext cx="9144000" cy="6551640"/>
              <a:chOff x="0" y="115920"/>
              <a:chExt cx="9144000" cy="6551640"/>
            </a:xfrm>
          </p:grpSpPr>
          <p:sp>
            <p:nvSpPr>
              <p:cNvPr id="15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9 - Εικόνα" descr=""/>
          <p:cNvPicPr/>
          <p:nvPr/>
        </p:nvPicPr>
        <p:blipFill>
          <a:blip r:embed="rId3"/>
          <a:stretch/>
        </p:blipFill>
        <p:spPr>
          <a:xfrm>
            <a:off x="250920" y="333360"/>
            <a:ext cx="1417680" cy="879480"/>
          </a:xfrm>
          <a:prstGeom prst="rect">
            <a:avLst/>
          </a:prstGeom>
          <a:ln w="0">
            <a:noFill/>
          </a:ln>
        </p:spPr>
      </p:pic>
      <p:sp>
        <p:nvSpPr>
          <p:cNvPr id="1527" name="PlaceHolder 1"/>
          <p:cNvSpPr>
            <a:spLocks noGrp="1"/>
          </p:cNvSpPr>
          <p:nvPr>
            <p:ph type="title"/>
          </p:nvPr>
        </p:nvSpPr>
        <p:spPr>
          <a:xfrm>
            <a:off x="539640" y="980640"/>
            <a:ext cx="8064720" cy="390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8" name="Ομάδα 1"/>
          <p:cNvGrpSpPr/>
          <p:nvPr/>
        </p:nvGrpSpPr>
        <p:grpSpPr>
          <a:xfrm>
            <a:off x="0" y="115920"/>
            <a:ext cx="9144000" cy="6551640"/>
            <a:chOff x="0" y="115920"/>
            <a:chExt cx="9144000" cy="6551640"/>
          </a:xfrm>
        </p:grpSpPr>
        <p:grpSp>
          <p:nvGrpSpPr>
            <p:cNvPr id="1529" name="Ομάδα 1"/>
            <p:cNvGrpSpPr/>
            <p:nvPr/>
          </p:nvGrpSpPr>
          <p:grpSpPr>
            <a:xfrm>
              <a:off x="0" y="115920"/>
              <a:ext cx="9144000" cy="6551640"/>
              <a:chOff x="0" y="115920"/>
              <a:chExt cx="9144000" cy="6551640"/>
            </a:xfrm>
          </p:grpSpPr>
          <p:sp>
            <p:nvSpPr>
              <p:cNvPr id="15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5" name="9 - Εικόνα" descr=""/>
          <p:cNvPicPr/>
          <p:nvPr/>
        </p:nvPicPr>
        <p:blipFill>
          <a:blip r:embed="rId3"/>
          <a:stretch/>
        </p:blipFill>
        <p:spPr>
          <a:xfrm>
            <a:off x="250920" y="333360"/>
            <a:ext cx="1417680" cy="879480"/>
          </a:xfrm>
          <a:prstGeom prst="rect">
            <a:avLst/>
          </a:prstGeom>
          <a:ln w="0">
            <a:noFill/>
          </a:ln>
        </p:spPr>
      </p:pic>
      <p:sp>
        <p:nvSpPr>
          <p:cNvPr id="1536" name="PlaceHolder 1"/>
          <p:cNvSpPr>
            <a:spLocks noGrp="1"/>
          </p:cNvSpPr>
          <p:nvPr>
            <p:ph type="title"/>
          </p:nvPr>
        </p:nvSpPr>
        <p:spPr>
          <a:xfrm>
            <a:off x="684360" y="2033280"/>
            <a:ext cx="77752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7" name="Ομάδα 1"/>
          <p:cNvGrpSpPr/>
          <p:nvPr/>
        </p:nvGrpSpPr>
        <p:grpSpPr>
          <a:xfrm>
            <a:off x="0" y="115920"/>
            <a:ext cx="9144000" cy="6551640"/>
            <a:chOff x="0" y="115920"/>
            <a:chExt cx="9144000" cy="6551640"/>
          </a:xfrm>
        </p:grpSpPr>
        <p:grpSp>
          <p:nvGrpSpPr>
            <p:cNvPr id="1538" name="Ομάδα 1"/>
            <p:cNvGrpSpPr/>
            <p:nvPr/>
          </p:nvGrpSpPr>
          <p:grpSpPr>
            <a:xfrm>
              <a:off x="0" y="115920"/>
              <a:ext cx="9144000" cy="6551640"/>
              <a:chOff x="0" y="115920"/>
              <a:chExt cx="9144000" cy="6551640"/>
            </a:xfrm>
          </p:grpSpPr>
          <p:sp>
            <p:nvSpPr>
              <p:cNvPr id="15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4" name="9 - Εικόνα" descr=""/>
          <p:cNvPicPr/>
          <p:nvPr/>
        </p:nvPicPr>
        <p:blipFill>
          <a:blip r:embed="rId3"/>
          <a:stretch/>
        </p:blipFill>
        <p:spPr>
          <a:xfrm>
            <a:off x="250920" y="333360"/>
            <a:ext cx="1417680" cy="879480"/>
          </a:xfrm>
          <a:prstGeom prst="rect">
            <a:avLst/>
          </a:prstGeom>
          <a:ln w="0">
            <a:noFill/>
          </a:ln>
        </p:spPr>
      </p:pic>
      <p:sp>
        <p:nvSpPr>
          <p:cNvPr id="1545" name="PlaceHolder 1"/>
          <p:cNvSpPr>
            <a:spLocks noGrp="1"/>
          </p:cNvSpPr>
          <p:nvPr>
            <p:ph type="title"/>
          </p:nvPr>
        </p:nvSpPr>
        <p:spPr>
          <a:xfrm>
            <a:off x="684360" y="1603080"/>
            <a:ext cx="7775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Ομάδα 1"/>
          <p:cNvGrpSpPr/>
          <p:nvPr/>
        </p:nvGrpSpPr>
        <p:grpSpPr>
          <a:xfrm>
            <a:off x="0" y="115920"/>
            <a:ext cx="9144000" cy="6551640"/>
            <a:chOff x="0" y="115920"/>
            <a:chExt cx="9144000" cy="6551640"/>
          </a:xfrm>
        </p:grpSpPr>
        <p:grpSp>
          <p:nvGrpSpPr>
            <p:cNvPr id="1547" name="Ομάδα 1"/>
            <p:cNvGrpSpPr/>
            <p:nvPr/>
          </p:nvGrpSpPr>
          <p:grpSpPr>
            <a:xfrm>
              <a:off x="0" y="115920"/>
              <a:ext cx="9144000" cy="6551640"/>
              <a:chOff x="0" y="115920"/>
              <a:chExt cx="9144000" cy="6551640"/>
            </a:xfrm>
          </p:grpSpPr>
          <p:sp>
            <p:nvSpPr>
              <p:cNvPr id="15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3" name="9 - Εικόνα" descr=""/>
          <p:cNvPicPr/>
          <p:nvPr/>
        </p:nvPicPr>
        <p:blipFill>
          <a:blip r:embed="rId3"/>
          <a:stretch/>
        </p:blipFill>
        <p:spPr>
          <a:xfrm>
            <a:off x="250920" y="333360"/>
            <a:ext cx="1417680" cy="879480"/>
          </a:xfrm>
          <a:prstGeom prst="rect">
            <a:avLst/>
          </a:prstGeom>
          <a:ln w="0">
            <a:noFill/>
          </a:ln>
        </p:spPr>
      </p:pic>
      <p:sp>
        <p:nvSpPr>
          <p:cNvPr id="1554" name="PlaceHolder 1"/>
          <p:cNvSpPr>
            <a:spLocks noGrp="1"/>
          </p:cNvSpPr>
          <p:nvPr>
            <p:ph type="title"/>
          </p:nvPr>
        </p:nvSpPr>
        <p:spPr>
          <a:xfrm>
            <a:off x="468360" y="1419120"/>
            <a:ext cx="799128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5" name="Ομάδα 1"/>
          <p:cNvGrpSpPr/>
          <p:nvPr/>
        </p:nvGrpSpPr>
        <p:grpSpPr>
          <a:xfrm>
            <a:off x="0" y="115920"/>
            <a:ext cx="9144000" cy="6551640"/>
            <a:chOff x="0" y="115920"/>
            <a:chExt cx="9144000" cy="6551640"/>
          </a:xfrm>
        </p:grpSpPr>
        <p:grpSp>
          <p:nvGrpSpPr>
            <p:cNvPr id="1556" name="Ομάδα 1"/>
            <p:cNvGrpSpPr/>
            <p:nvPr/>
          </p:nvGrpSpPr>
          <p:grpSpPr>
            <a:xfrm>
              <a:off x="0" y="115920"/>
              <a:ext cx="9144000" cy="6551640"/>
              <a:chOff x="0" y="115920"/>
              <a:chExt cx="9144000" cy="6551640"/>
            </a:xfrm>
          </p:grpSpPr>
          <p:sp>
            <p:nvSpPr>
              <p:cNvPr id="15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2" name="9 - Εικόνα" descr=""/>
          <p:cNvPicPr/>
          <p:nvPr/>
        </p:nvPicPr>
        <p:blipFill>
          <a:blip r:embed="rId3"/>
          <a:stretch/>
        </p:blipFill>
        <p:spPr>
          <a:xfrm>
            <a:off x="250920" y="333360"/>
            <a:ext cx="1417680" cy="879480"/>
          </a:xfrm>
          <a:prstGeom prst="rect">
            <a:avLst/>
          </a:prstGeom>
          <a:ln w="0">
            <a:noFill/>
          </a:ln>
        </p:spPr>
      </p:pic>
      <p:sp>
        <p:nvSpPr>
          <p:cNvPr id="1563" name="PlaceHolder 1"/>
          <p:cNvSpPr>
            <a:spLocks noGrp="1"/>
          </p:cNvSpPr>
          <p:nvPr>
            <p:ph type="title"/>
          </p:nvPr>
        </p:nvSpPr>
        <p:spPr>
          <a:xfrm>
            <a:off x="468360" y="1603080"/>
            <a:ext cx="8207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4" name="Ομάδα 1"/>
          <p:cNvGrpSpPr/>
          <p:nvPr/>
        </p:nvGrpSpPr>
        <p:grpSpPr>
          <a:xfrm>
            <a:off x="0" y="115920"/>
            <a:ext cx="9144000" cy="6551640"/>
            <a:chOff x="0" y="115920"/>
            <a:chExt cx="9144000" cy="6551640"/>
          </a:xfrm>
        </p:grpSpPr>
        <p:grpSp>
          <p:nvGrpSpPr>
            <p:cNvPr id="1565" name="Ομάδα 1"/>
            <p:cNvGrpSpPr/>
            <p:nvPr/>
          </p:nvGrpSpPr>
          <p:grpSpPr>
            <a:xfrm>
              <a:off x="0" y="115920"/>
              <a:ext cx="9144000" cy="6551640"/>
              <a:chOff x="0" y="115920"/>
              <a:chExt cx="9144000" cy="6551640"/>
            </a:xfrm>
          </p:grpSpPr>
          <p:sp>
            <p:nvSpPr>
              <p:cNvPr id="15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1" name="9 - Εικόνα" descr=""/>
          <p:cNvPicPr/>
          <p:nvPr/>
        </p:nvPicPr>
        <p:blipFill>
          <a:blip r:embed="rId3"/>
          <a:stretch/>
        </p:blipFill>
        <p:spPr>
          <a:xfrm>
            <a:off x="250920" y="333360"/>
            <a:ext cx="1417680" cy="879480"/>
          </a:xfrm>
          <a:prstGeom prst="rect">
            <a:avLst/>
          </a:prstGeom>
          <a:ln w="0">
            <a:noFill/>
          </a:ln>
        </p:spPr>
      </p:pic>
      <p:sp>
        <p:nvSpPr>
          <p:cNvPr id="1572" name="PlaceHolder 1"/>
          <p:cNvSpPr>
            <a:spLocks noGrp="1"/>
          </p:cNvSpPr>
          <p:nvPr>
            <p:ph type="title"/>
          </p:nvPr>
        </p:nvSpPr>
        <p:spPr>
          <a:xfrm>
            <a:off x="250560" y="1603080"/>
            <a:ext cx="86374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2" name="Ομάδα 1"/>
          <p:cNvGrpSpPr/>
          <p:nvPr/>
        </p:nvGrpSpPr>
        <p:grpSpPr>
          <a:xfrm>
            <a:off x="0" y="115920"/>
            <a:ext cx="9144000" cy="6551640"/>
            <a:chOff x="0" y="115920"/>
            <a:chExt cx="9144000" cy="6551640"/>
          </a:xfrm>
        </p:grpSpPr>
        <p:grpSp>
          <p:nvGrpSpPr>
            <p:cNvPr id="1583" name="Ομάδα 1"/>
            <p:cNvGrpSpPr/>
            <p:nvPr/>
          </p:nvGrpSpPr>
          <p:grpSpPr>
            <a:xfrm>
              <a:off x="0" y="115920"/>
              <a:ext cx="9144000" cy="6551640"/>
              <a:chOff x="0" y="115920"/>
              <a:chExt cx="9144000" cy="6551640"/>
            </a:xfrm>
          </p:grpSpPr>
          <p:sp>
            <p:nvSpPr>
              <p:cNvPr id="15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9" name="9 - Εικόνα" descr=""/>
          <p:cNvPicPr/>
          <p:nvPr/>
        </p:nvPicPr>
        <p:blipFill>
          <a:blip r:embed="rId3"/>
          <a:stretch/>
        </p:blipFill>
        <p:spPr>
          <a:xfrm>
            <a:off x="250920" y="333360"/>
            <a:ext cx="1417680" cy="879480"/>
          </a:xfrm>
          <a:prstGeom prst="rect">
            <a:avLst/>
          </a:prstGeom>
          <a:ln w="0">
            <a:noFill/>
          </a:ln>
        </p:spPr>
      </p:pic>
      <p:sp>
        <p:nvSpPr>
          <p:cNvPr id="1590" name="PlaceHolder 1"/>
          <p:cNvSpPr>
            <a:spLocks noGrp="1"/>
          </p:cNvSpPr>
          <p:nvPr>
            <p:ph type="title"/>
          </p:nvPr>
        </p:nvSpPr>
        <p:spPr>
          <a:xfrm>
            <a:off x="610920" y="1603080"/>
            <a:ext cx="7848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1" name="Ομάδα 1"/>
          <p:cNvGrpSpPr/>
          <p:nvPr/>
        </p:nvGrpSpPr>
        <p:grpSpPr>
          <a:xfrm>
            <a:off x="0" y="115920"/>
            <a:ext cx="9144000" cy="6551640"/>
            <a:chOff x="0" y="115920"/>
            <a:chExt cx="9144000" cy="6551640"/>
          </a:xfrm>
        </p:grpSpPr>
        <p:grpSp>
          <p:nvGrpSpPr>
            <p:cNvPr id="1592" name="Ομάδα 1"/>
            <p:cNvGrpSpPr/>
            <p:nvPr/>
          </p:nvGrpSpPr>
          <p:grpSpPr>
            <a:xfrm>
              <a:off x="0" y="115920"/>
              <a:ext cx="9144000" cy="6551640"/>
              <a:chOff x="0" y="115920"/>
              <a:chExt cx="9144000" cy="6551640"/>
            </a:xfrm>
          </p:grpSpPr>
          <p:sp>
            <p:nvSpPr>
              <p:cNvPr id="15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8" name="9 - Εικόνα" descr=""/>
          <p:cNvPicPr/>
          <p:nvPr/>
        </p:nvPicPr>
        <p:blipFill>
          <a:blip r:embed="rId3"/>
          <a:stretch/>
        </p:blipFill>
        <p:spPr>
          <a:xfrm>
            <a:off x="250920" y="333360"/>
            <a:ext cx="1417680" cy="879480"/>
          </a:xfrm>
          <a:prstGeom prst="rect">
            <a:avLst/>
          </a:prstGeom>
          <a:ln w="0">
            <a:noFill/>
          </a:ln>
        </p:spPr>
      </p:pic>
      <p:sp>
        <p:nvSpPr>
          <p:cNvPr id="1599" name="PlaceHolder 1"/>
          <p:cNvSpPr>
            <a:spLocks noGrp="1"/>
          </p:cNvSpPr>
          <p:nvPr>
            <p:ph type="title"/>
          </p:nvPr>
        </p:nvSpPr>
        <p:spPr>
          <a:xfrm>
            <a:off x="181080" y="1603080"/>
            <a:ext cx="82785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0" name="Ομάδα 1"/>
          <p:cNvGrpSpPr/>
          <p:nvPr/>
        </p:nvGrpSpPr>
        <p:grpSpPr>
          <a:xfrm>
            <a:off x="0" y="115920"/>
            <a:ext cx="9144000" cy="6551640"/>
            <a:chOff x="0" y="115920"/>
            <a:chExt cx="9144000" cy="6551640"/>
          </a:xfrm>
        </p:grpSpPr>
        <p:grpSp>
          <p:nvGrpSpPr>
            <p:cNvPr id="1601" name="Ομάδα 1"/>
            <p:cNvGrpSpPr/>
            <p:nvPr/>
          </p:nvGrpSpPr>
          <p:grpSpPr>
            <a:xfrm>
              <a:off x="0" y="115920"/>
              <a:ext cx="9144000" cy="6551640"/>
              <a:chOff x="0" y="115920"/>
              <a:chExt cx="9144000" cy="6551640"/>
            </a:xfrm>
          </p:grpSpPr>
          <p:sp>
            <p:nvSpPr>
              <p:cNvPr id="16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7" name="9 - Εικόνα" descr=""/>
          <p:cNvPicPr/>
          <p:nvPr/>
        </p:nvPicPr>
        <p:blipFill>
          <a:blip r:embed="rId3"/>
          <a:stretch/>
        </p:blipFill>
        <p:spPr>
          <a:xfrm>
            <a:off x="250920" y="333360"/>
            <a:ext cx="1417680" cy="879480"/>
          </a:xfrm>
          <a:prstGeom prst="rect">
            <a:avLst/>
          </a:prstGeom>
          <a:ln w="0">
            <a:noFill/>
          </a:ln>
        </p:spPr>
      </p:pic>
      <p:sp>
        <p:nvSpPr>
          <p:cNvPr id="1608" name="PlaceHolder 1"/>
          <p:cNvSpPr>
            <a:spLocks noGrp="1"/>
          </p:cNvSpPr>
          <p:nvPr>
            <p:ph type="title"/>
          </p:nvPr>
        </p:nvSpPr>
        <p:spPr>
          <a:xfrm>
            <a:off x="181080" y="2681280"/>
            <a:ext cx="827856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79280" y="1392120"/>
            <a:ext cx="8785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9" name="Ομάδα 1"/>
          <p:cNvGrpSpPr/>
          <p:nvPr/>
        </p:nvGrpSpPr>
        <p:grpSpPr>
          <a:xfrm>
            <a:off x="0" y="115920"/>
            <a:ext cx="9144000" cy="6551640"/>
            <a:chOff x="0" y="115920"/>
            <a:chExt cx="9144000" cy="6551640"/>
          </a:xfrm>
        </p:grpSpPr>
        <p:grpSp>
          <p:nvGrpSpPr>
            <p:cNvPr id="1610" name="Ομάδα 1"/>
            <p:cNvGrpSpPr/>
            <p:nvPr/>
          </p:nvGrpSpPr>
          <p:grpSpPr>
            <a:xfrm>
              <a:off x="0" y="115920"/>
              <a:ext cx="9144000" cy="6551640"/>
              <a:chOff x="0" y="115920"/>
              <a:chExt cx="9144000" cy="6551640"/>
            </a:xfrm>
          </p:grpSpPr>
          <p:sp>
            <p:nvSpPr>
              <p:cNvPr id="16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6" name="9 - Εικόνα" descr=""/>
          <p:cNvPicPr/>
          <p:nvPr/>
        </p:nvPicPr>
        <p:blipFill>
          <a:blip r:embed="rId3"/>
          <a:stretch/>
        </p:blipFill>
        <p:spPr>
          <a:xfrm>
            <a:off x="250920" y="333360"/>
            <a:ext cx="1417680" cy="879480"/>
          </a:xfrm>
          <a:prstGeom prst="rect">
            <a:avLst/>
          </a:prstGeom>
          <a:ln w="0">
            <a:noFill/>
          </a:ln>
        </p:spPr>
      </p:pic>
      <p:sp>
        <p:nvSpPr>
          <p:cNvPr id="1617" name="PlaceHolder 1"/>
          <p:cNvSpPr>
            <a:spLocks noGrp="1"/>
          </p:cNvSpPr>
          <p:nvPr>
            <p:ph type="title"/>
          </p:nvPr>
        </p:nvSpPr>
        <p:spPr>
          <a:xfrm>
            <a:off x="539640" y="1819080"/>
            <a:ext cx="8064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8" name="Ομάδα 1"/>
          <p:cNvGrpSpPr/>
          <p:nvPr/>
        </p:nvGrpSpPr>
        <p:grpSpPr>
          <a:xfrm>
            <a:off x="0" y="115920"/>
            <a:ext cx="9144000" cy="6551640"/>
            <a:chOff x="0" y="115920"/>
            <a:chExt cx="9144000" cy="6551640"/>
          </a:xfrm>
        </p:grpSpPr>
        <p:grpSp>
          <p:nvGrpSpPr>
            <p:cNvPr id="1619" name="Ομάδα 1"/>
            <p:cNvGrpSpPr/>
            <p:nvPr/>
          </p:nvGrpSpPr>
          <p:grpSpPr>
            <a:xfrm>
              <a:off x="0" y="115920"/>
              <a:ext cx="9144000" cy="6551640"/>
              <a:chOff x="0" y="115920"/>
              <a:chExt cx="9144000" cy="6551640"/>
            </a:xfrm>
          </p:grpSpPr>
          <p:sp>
            <p:nvSpPr>
              <p:cNvPr id="16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5" name="9 - Εικόνα" descr=""/>
          <p:cNvPicPr/>
          <p:nvPr/>
        </p:nvPicPr>
        <p:blipFill>
          <a:blip r:embed="rId3"/>
          <a:stretch/>
        </p:blipFill>
        <p:spPr>
          <a:xfrm>
            <a:off x="250920" y="333360"/>
            <a:ext cx="1417680" cy="879480"/>
          </a:xfrm>
          <a:prstGeom prst="rect">
            <a:avLst/>
          </a:prstGeom>
          <a:ln w="0">
            <a:noFill/>
          </a:ln>
        </p:spPr>
      </p:pic>
      <p:sp>
        <p:nvSpPr>
          <p:cNvPr id="1626" name="PlaceHolder 1"/>
          <p:cNvSpPr>
            <a:spLocks noGrp="1"/>
          </p:cNvSpPr>
          <p:nvPr>
            <p:ph type="title"/>
          </p:nvPr>
        </p:nvSpPr>
        <p:spPr>
          <a:xfrm>
            <a:off x="539640" y="2681280"/>
            <a:ext cx="792000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Ομάδα 1"/>
          <p:cNvGrpSpPr/>
          <p:nvPr/>
        </p:nvGrpSpPr>
        <p:grpSpPr>
          <a:xfrm>
            <a:off x="0" y="115920"/>
            <a:ext cx="9144000" cy="6551640"/>
            <a:chOff x="0" y="115920"/>
            <a:chExt cx="9144000" cy="6551640"/>
          </a:xfrm>
        </p:grpSpPr>
        <p:grpSp>
          <p:nvGrpSpPr>
            <p:cNvPr id="1628" name="Ομάδα 1"/>
            <p:cNvGrpSpPr/>
            <p:nvPr/>
          </p:nvGrpSpPr>
          <p:grpSpPr>
            <a:xfrm>
              <a:off x="0" y="115920"/>
              <a:ext cx="9144000" cy="6551640"/>
              <a:chOff x="0" y="115920"/>
              <a:chExt cx="9144000" cy="6551640"/>
            </a:xfrm>
          </p:grpSpPr>
          <p:sp>
            <p:nvSpPr>
              <p:cNvPr id="16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4" name="9 - Εικόνα" descr=""/>
          <p:cNvPicPr/>
          <p:nvPr/>
        </p:nvPicPr>
        <p:blipFill>
          <a:blip r:embed="rId3"/>
          <a:stretch/>
        </p:blipFill>
        <p:spPr>
          <a:xfrm>
            <a:off x="250920" y="333360"/>
            <a:ext cx="1417680" cy="879480"/>
          </a:xfrm>
          <a:prstGeom prst="rect">
            <a:avLst/>
          </a:prstGeom>
          <a:ln w="0">
            <a:noFill/>
          </a:ln>
        </p:spPr>
      </p:pic>
      <p:sp>
        <p:nvSpPr>
          <p:cNvPr id="1635" name="PlaceHolder 1"/>
          <p:cNvSpPr>
            <a:spLocks noGrp="1"/>
          </p:cNvSpPr>
          <p:nvPr>
            <p:ph type="title"/>
          </p:nvPr>
        </p:nvSpPr>
        <p:spPr>
          <a:xfrm>
            <a:off x="178920" y="1819080"/>
            <a:ext cx="8280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r>
              <a:rPr b="1" lang="en-US" sz="2800" spc="-1" strike="noStrike">
                <a:solidFill>
                  <a:srgbClr val="000000"/>
                </a:solidFill>
                <a:latin typeface="Times New Roman"/>
                <a:ea typeface="Arial"/>
              </a:rPr>
              <a:t>-</a:t>
            </a:r>
            <a:br>
              <a:rPr sz="2800"/>
            </a:br>
            <a:br>
              <a:rPr sz="2800"/>
            </a:br>
            <a:r>
              <a:rPr b="1" lang="el-GR" sz="2800" spc="-1" strike="noStrike">
                <a:solidFill>
                  <a:srgbClr val="000000"/>
                </a:solidFill>
                <a:latin typeface="Times New Roman"/>
              </a:rPr>
              <a:t>O ρόλος του Εκπαιδευτικού Προσωπικού</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637" name="Ομάδα 1"/>
          <p:cNvGrpSpPr/>
          <p:nvPr/>
        </p:nvGrpSpPr>
        <p:grpSpPr>
          <a:xfrm>
            <a:off x="0" y="115920"/>
            <a:ext cx="9144000" cy="6551640"/>
            <a:chOff x="0" y="115920"/>
            <a:chExt cx="9144000" cy="6551640"/>
          </a:xfrm>
        </p:grpSpPr>
        <p:grpSp>
          <p:nvGrpSpPr>
            <p:cNvPr id="1638" name="Ομάδα 1"/>
            <p:cNvGrpSpPr/>
            <p:nvPr/>
          </p:nvGrpSpPr>
          <p:grpSpPr>
            <a:xfrm>
              <a:off x="0" y="115920"/>
              <a:ext cx="9144000" cy="6551640"/>
              <a:chOff x="0" y="115920"/>
              <a:chExt cx="9144000" cy="6551640"/>
            </a:xfrm>
          </p:grpSpPr>
          <p:sp>
            <p:nvSpPr>
              <p:cNvPr id="1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4" name="9 - Εικόνα" descr=""/>
          <p:cNvPicPr/>
          <p:nvPr/>
        </p:nvPicPr>
        <p:blipFill>
          <a:blip r:embed="rId3"/>
          <a:stretch/>
        </p:blipFill>
        <p:spPr>
          <a:xfrm>
            <a:off x="250920" y="333360"/>
            <a:ext cx="1417680" cy="8794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46" name="Picture 9" descr=""/>
          <p:cNvPicPr/>
          <p:nvPr/>
        </p:nvPicPr>
        <p:blipFill>
          <a:blip r:embed="rId1"/>
          <a:stretch/>
        </p:blipFill>
        <p:spPr>
          <a:xfrm>
            <a:off x="0" y="0"/>
            <a:ext cx="9144000" cy="1368360"/>
          </a:xfrm>
          <a:prstGeom prst="rect">
            <a:avLst/>
          </a:prstGeom>
          <a:ln w="0">
            <a:noFill/>
          </a:ln>
        </p:spPr>
      </p:pic>
      <p:pic>
        <p:nvPicPr>
          <p:cNvPr id="1647" name="Picture 10" descr=""/>
          <p:cNvPicPr/>
          <p:nvPr/>
        </p:nvPicPr>
        <p:blipFill>
          <a:blip r:embed="rId2"/>
          <a:stretch/>
        </p:blipFill>
        <p:spPr>
          <a:xfrm>
            <a:off x="1258920" y="2060640"/>
            <a:ext cx="1297080" cy="1528560"/>
          </a:xfrm>
          <a:prstGeom prst="rect">
            <a:avLst/>
          </a:prstGeom>
          <a:ln w="0">
            <a:noFill/>
          </a:ln>
        </p:spPr>
      </p:pic>
      <p:pic>
        <p:nvPicPr>
          <p:cNvPr id="1648" name="12 - Εικόνα" descr=""/>
          <p:cNvPicPr/>
          <p:nvPr/>
        </p:nvPicPr>
        <p:blipFill>
          <a:blip r:embed="rId3"/>
          <a:stretch/>
        </p:blipFill>
        <p:spPr>
          <a:xfrm>
            <a:off x="6948360" y="1989000"/>
            <a:ext cx="1444680" cy="1573200"/>
          </a:xfrm>
          <a:prstGeom prst="rect">
            <a:avLst/>
          </a:prstGeom>
          <a:ln w="0">
            <a:noFill/>
          </a:ln>
        </p:spPr>
      </p:pic>
      <p:sp>
        <p:nvSpPr>
          <p:cNvPr id="1649"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0"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26560" y="1484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835280" y="2421000"/>
            <a:ext cx="7845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90000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8920" y="981000"/>
            <a:ext cx="8425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50560" y="1212840"/>
            <a:ext cx="84978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412640"/>
            <a:ext cx="820908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79280" y="1557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95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3" name="Ομάδα 1"/>
          <p:cNvGrpSpPr/>
          <p:nvPr/>
        </p:nvGrpSpPr>
        <p:grpSpPr>
          <a:xfrm>
            <a:off x="0" y="0"/>
            <a:ext cx="9144000" cy="6551640"/>
            <a:chOff x="0" y="0"/>
            <a:chExt cx="9144000" cy="6551640"/>
          </a:xfrm>
        </p:grpSpPr>
        <p:grpSp>
          <p:nvGrpSpPr>
            <p:cNvPr id="954" name="Ομάδα 1"/>
            <p:cNvGrpSpPr/>
            <p:nvPr/>
          </p:nvGrpSpPr>
          <p:grpSpPr>
            <a:xfrm>
              <a:off x="0" y="0"/>
              <a:ext cx="9144000" cy="6551640"/>
              <a:chOff x="0" y="0"/>
              <a:chExt cx="9144000" cy="6551640"/>
            </a:xfrm>
          </p:grpSpPr>
          <p:sp>
            <p:nvSpPr>
              <p:cNvPr id="955"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2" name="Ομάδα 1"/>
          <p:cNvGrpSpPr/>
          <p:nvPr/>
        </p:nvGrpSpPr>
        <p:grpSpPr>
          <a:xfrm>
            <a:off x="0" y="0"/>
            <a:ext cx="9144000" cy="6551640"/>
            <a:chOff x="0" y="0"/>
            <a:chExt cx="9144000" cy="6551640"/>
          </a:xfrm>
        </p:grpSpPr>
        <p:grpSp>
          <p:nvGrpSpPr>
            <p:cNvPr id="963" name="Ομάδα 1"/>
            <p:cNvGrpSpPr/>
            <p:nvPr/>
          </p:nvGrpSpPr>
          <p:grpSpPr>
            <a:xfrm>
              <a:off x="0" y="0"/>
              <a:ext cx="9144000" cy="6551640"/>
              <a:chOff x="0" y="0"/>
              <a:chExt cx="9144000" cy="6551640"/>
            </a:xfrm>
          </p:grpSpPr>
          <p:sp>
            <p:nvSpPr>
              <p:cNvPr id="964"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1" name="Ομάδα 1"/>
          <p:cNvGrpSpPr/>
          <p:nvPr/>
        </p:nvGrpSpPr>
        <p:grpSpPr>
          <a:xfrm>
            <a:off x="0" y="0"/>
            <a:ext cx="9144000" cy="6551640"/>
            <a:chOff x="0" y="0"/>
            <a:chExt cx="9144000" cy="6551640"/>
          </a:xfrm>
        </p:grpSpPr>
        <p:grpSp>
          <p:nvGrpSpPr>
            <p:cNvPr id="972" name="Ομάδα 1"/>
            <p:cNvGrpSpPr/>
            <p:nvPr/>
          </p:nvGrpSpPr>
          <p:grpSpPr>
            <a:xfrm>
              <a:off x="0" y="0"/>
              <a:ext cx="9144000" cy="6551640"/>
              <a:chOff x="0" y="0"/>
              <a:chExt cx="9144000" cy="6551640"/>
            </a:xfrm>
          </p:grpSpPr>
          <p:sp>
            <p:nvSpPr>
              <p:cNvPr id="97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981000"/>
            <a:ext cx="79200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94920" y="1392120"/>
            <a:ext cx="811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1052280"/>
            <a:ext cx="86374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23640" y="1125000"/>
            <a:ext cx="856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250560" y="980640"/>
            <a:ext cx="8637480" cy="464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233360"/>
            <a:ext cx="806472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1" name="Ομάδα 1"/>
          <p:cNvGrpSpPr/>
          <p:nvPr/>
        </p:nvGrpSpPr>
        <p:grpSpPr>
          <a:xfrm>
            <a:off x="0" y="115920"/>
            <a:ext cx="9144000" cy="6551640"/>
            <a:chOff x="0" y="115920"/>
            <a:chExt cx="9144000" cy="6551640"/>
          </a:xfrm>
        </p:grpSpPr>
        <p:grpSp>
          <p:nvGrpSpPr>
            <p:cNvPr id="1412" name="Ομάδα 1"/>
            <p:cNvGrpSpPr/>
            <p:nvPr/>
          </p:nvGrpSpPr>
          <p:grpSpPr>
            <a:xfrm>
              <a:off x="0" y="115920"/>
              <a:ext cx="9144000" cy="6551640"/>
              <a:chOff x="0" y="115920"/>
              <a:chExt cx="9144000" cy="6551640"/>
            </a:xfrm>
          </p:grpSpPr>
          <p:sp>
            <p:nvSpPr>
              <p:cNvPr id="14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8" name="9 - Εικόνα" descr=""/>
          <p:cNvPicPr/>
          <p:nvPr/>
        </p:nvPicPr>
        <p:blipFill>
          <a:blip r:embed="rId3"/>
          <a:stretch/>
        </p:blipFill>
        <p:spPr>
          <a:xfrm>
            <a:off x="250920" y="333360"/>
            <a:ext cx="1417680" cy="879480"/>
          </a:xfrm>
          <a:prstGeom prst="rect">
            <a:avLst/>
          </a:prstGeom>
          <a:ln w="0">
            <a:noFill/>
          </a:ln>
        </p:spPr>
      </p:pic>
      <p:sp>
        <p:nvSpPr>
          <p:cNvPr id="1419" name="PlaceHolder 1"/>
          <p:cNvSpPr>
            <a:spLocks noGrp="1"/>
          </p:cNvSpPr>
          <p:nvPr>
            <p:ph type="title"/>
          </p:nvPr>
        </p:nvSpPr>
        <p:spPr>
          <a:xfrm>
            <a:off x="250560" y="1555920"/>
            <a:ext cx="8497800" cy="39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10:01:44Z</dcterms:modified>
  <cp:revision>176</cp:revision>
  <dc:subject/>
  <dc:title>Παρουσίαση του PowerPoint</dc:title>
</cp:coreProperties>
</file>